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133-EA86-4AFD-9F0F-3FB2C24D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90A-3EDD-4DB1-8367-D9A1ED24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867-B309-4EB4-ACCA-7EB3C561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BD6-1604-4F9D-AEF0-54268AA1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ECD-83BD-448E-95ED-E8115291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F2B-C402-45E6-BC32-E7A4A1A3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46A-ACA0-40DE-A160-6196130F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9CB-64BF-4654-83B9-F4A6AB9B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422-B4C5-42AE-A6F4-08A339F5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98A-551E-4E66-B59D-3F72C5B4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0BE-E0FC-4883-B46C-076AF4B6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E12-283A-4711-AA5D-EA153974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FAFE-0216-4C4C-8BF3-1566E1221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0560" y="1117080"/>
            <a:ext cx="8447040" cy="12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ritique of a TV Commer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51160" y="27432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90880" y="6095880"/>
            <a:ext cx="5164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: Erin, Brandee and Conni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1: Define the produ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watched a commercial for _________.  The company is ______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40160" y="27432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2: Describe the com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happened in the commercia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rst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n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fter that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ally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e end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30211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3: Analyze the com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time of day did you see the commercial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show were you watching when you saw the commercia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were the important things in the commercial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did you remember most about the commercial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o do you think the commercial was made fo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59120" y="4368960"/>
            <a:ext cx="280836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310680"/>
            <a:ext cx="967284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4: How does the commercial try to persuade the audien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mmercial uses __________ to try to persuade the audience.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: musi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nguage (the best, the most afford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elebrities, et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xt (large, colorful fon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ts (doctors say..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84880" y="4673520"/>
            <a:ext cx="35910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310680"/>
            <a:ext cx="967284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p 5: Do you think the commercial is realistic or honest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9679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my opinion, the commercial is/is not _______________ because ____________________________________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41680" y="3251160"/>
            <a:ext cx="4825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2000" y="310680"/>
            <a:ext cx="967284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ep 6: Do you like the commercial?  Why or why not?  Would you buy the product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5840" y="1969560"/>
            <a:ext cx="950760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like this commercial because ___________________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don't like this commercial becaus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_________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would/would not buy this product becaus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____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007400" y="5380200"/>
            <a:ext cx="2147760" cy="231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010280" y="3149640"/>
            <a:ext cx="18306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